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C48-D986-4420-9F83-5DD2C7B1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8E9-0F15-4E05-AC2F-309F032A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E49-CD84-4AAF-9A42-C31DA9A8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140-0169-4DB6-ADAB-5A318DD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66C-C0B6-4789-ACA7-40B6EDA9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E779-82C9-4023-B636-583716B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7275-038B-4700-B240-D522613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573-F146-4E31-A169-A5C0839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48E7-753D-4AA0-A0DE-12C244A5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98E-891C-457F-A379-BD1BDB62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FBF-08CC-41B9-9C3E-858A5731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F8E-A281-43F7-BE36-BA3F338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5369-A2AB-46D6-AED5-2BD7704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E316-E6A9-4FFE-A0DF-84E0403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29B7-917F-407F-9266-E77ED9D5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E75E-1556-4AB9-84A9-43A49714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1A0-C278-438A-8460-18F2E7E4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9A652-FFE8-4808-BE04-3D0563BC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C362B-92C5-43A1-BE9E-8854C310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D8BC1-4B36-44C1-B9B2-EBB4559B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262CE-FC33-444B-B84E-F06FC1F7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1B066-519B-4D49-9D63-7E287591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E0D-C9D9-4276-9B93-D828766A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F8106-5108-46C7-80B5-29A601A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FE16C-DAF0-4BD6-8F8B-85D4CB5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D0F44-D05E-495E-AED9-37740AB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FFCFC-B1AD-4F2D-A9C9-64BC9B5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3A968-2F01-46D7-8647-6206E0E3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89D7A-538A-406B-B4DB-FF65F038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F2868-0186-4476-A586-D0F264EA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EF80-937D-4187-B880-AD82338B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5C31-BA02-4234-8B75-BD0AE23F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57F4-2F5C-4544-96F6-FD2EA5AE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772-D935-4EF7-93C2-B5CEC569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5B36-D339-4FBA-8CC3-DEBD3E3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9868-21F7-4EDA-8224-E8D7E06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94A1-A02A-4379-8F0C-C82CF22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C308-0150-494E-8097-D4676AA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0204-0562-4E99-BFA1-C6A21EE9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8AA1-8947-40D0-8400-43A9801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4F59-18DA-42C7-B7A9-14857C03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D5FC-5525-4E60-AAE4-1A20A4A3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0DFD-A1ED-48E9-85F1-76A5179D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115DA-87C7-4FE8-86E4-D0986941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D07-D75C-4FEC-8FE5-2965AD5C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B3959-1D00-40F2-8898-D354AF3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E0656-8885-442F-8110-70EFB92F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0B613-647B-4C1B-BC1C-2FA2C35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4C98D-7478-4887-86E5-CC0109F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F22BC-E200-4BDF-BF26-D163913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67738-2534-4DBC-B26F-FC0FCFE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91572-7608-4C44-BDF2-5271052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CC6B2-B48B-4ADC-B0FE-4C2C824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EE2DB-E259-4337-8DE7-31651979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FD650-C1A0-4E97-A2D0-998A8279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A8A-6185-492B-8B56-66CBA5F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BE657-6E5A-4E0F-B8E6-0E253606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DAB40-9343-4A89-A9F7-63BBC0B2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8C520-0628-48F3-AF05-C1D09B0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047B0-9AC1-4CF0-AB7E-4C9BEB54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8CE54-9926-4F1F-9F4A-43E8FB58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90F41-00AF-4BC7-8770-BC89B57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9D8DC-D657-404E-A768-81D8752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BBFF4-6DF4-4C4F-9A48-160C76B5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C477E-C617-4131-BF71-DB71D36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8F434-A6E7-42A0-A22C-F75CA63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BD3-251F-4C80-BD90-58CF005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32A21-DEF7-44E9-BB8A-97D303CD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8BD0F-B3B2-4043-AD17-FECE42A6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991A4-1CDF-428B-9AA9-DAC4DF3C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A18AF-FFC0-4E52-80CA-D562B69A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A6168-AA5A-46F0-83C3-B2179592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130C2-756F-4D5E-89C4-F815D79E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045F2-9072-475C-88AF-1D8304A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F7AEA-0FE9-4AAB-B40F-14567F0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72D4E-357B-4A00-ACEF-7B4E881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F74B0-7124-4374-A109-C8E5578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01C-4D4A-44CB-ADB7-76E9161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F9D16-07AC-438C-8BDF-0D221FB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251D9-40F0-4E88-82A3-04DEB4E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CA057-D98B-4FDA-8BDB-1CEFAB2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5DE53-2E20-46BB-816F-54F4E4B2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52A57-7CCD-4518-96CC-2BEB7A51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093-C675-458F-B6B7-B6B2AD8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D07-D219-4E8F-87E1-9B9F8751D5E9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687-2F17-4A55-9F12-40526EDB766E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70F-6FDC-41D1-A380-5E4AFB25D96A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4F01-3CC9-4B70-B976-8E5FF541266B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CEF0-A321-4091-805D-0DB95321EB60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C91-E785-48EE-82D1-C7B1DEB1EB2D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967-FF4F-4E23-8D1A-D0FD0603FE4D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VOLUM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5640" y="2928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glasses A, B, C and D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NTUuser\Desktop\2008_08_17\volume 5.jpg"/>
          <p:cNvPicPr/>
          <p:nvPr/>
        </p:nvPicPr>
        <p:blipFill>
          <a:blip r:embed="rId1"/>
          <a:stretch/>
        </p:blipFill>
        <p:spPr>
          <a:xfrm>
            <a:off x="2786040" y="1643040"/>
            <a:ext cx="2786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A contains ____ more glasses of water than Jug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B contains ____ fewer glasses of water than Jug C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NTUuser\Desktop\2008_08_17\volume 6.jpg"/>
          <p:cNvPicPr/>
          <p:nvPr/>
        </p:nvPicPr>
        <p:blipFill>
          <a:blip r:embed="rId1"/>
          <a:stretch/>
        </p:blipFill>
        <p:spPr>
          <a:xfrm>
            <a:off x="2571840" y="1285920"/>
            <a:ext cx="32860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mug contains ____ fewer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mug and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NTUuser\Desktop\2008_08_17\volume 4.jpg"/>
          <p:cNvPicPr/>
          <p:nvPr/>
        </p:nvPicPr>
        <p:blipFill>
          <a:blip r:embed="rId1"/>
          <a:stretch/>
        </p:blipFill>
        <p:spPr>
          <a:xfrm>
            <a:off x="2286000" y="1143000"/>
            <a:ext cx="407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ictures are from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Textboo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Workbook Part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amount of water is called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the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 Containers A, B and C have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ame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 if they contain the same amount 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NTUuser\Desktop\2008_08_17\volume 2.jpg"/>
          <p:cNvPicPr/>
          <p:nvPr/>
        </p:nvPicPr>
        <p:blipFill>
          <a:blip r:embed="rId3"/>
          <a:stretch/>
        </p:blipFill>
        <p:spPr>
          <a:xfrm>
            <a:off x="5214960" y="2071800"/>
            <a:ext cx="7063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A contains less water tha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B contains more water tha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00680" y="2071800"/>
            <a:ext cx="12142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F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4286160" y="2000160"/>
            <a:ext cx="70668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2714760" y="1500120"/>
            <a:ext cx="1214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Kettles A and B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A contains 2 more glasses of water than Kettle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B contains 2 fewer glasses of water than Kettle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NTUuser\Desktop\2008_08_17\volume 3.jpg"/>
          <p:cNvPicPr/>
          <p:nvPr/>
        </p:nvPicPr>
        <p:blipFill>
          <a:blip r:embed="rId1"/>
          <a:stretch/>
        </p:blipFill>
        <p:spPr>
          <a:xfrm>
            <a:off x="2286000" y="1285920"/>
            <a:ext cx="4413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So far, we have been comparing the volumes of 2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Now, let’s look at how we compare the volumes of 3 or more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5:00:59Z</dcterms:created>
  <dc:creator>NTUuser</dc:creator>
  <dc:description/>
  <dc:language>en-US</dc:language>
  <cp:lastModifiedBy>NTUuser</cp:lastModifiedBy>
  <dcterms:modified xsi:type="dcterms:W3CDTF">2009-01-03T12:53:48Z</dcterms:modified>
  <cp:revision>16</cp:revision>
  <dc:subject/>
  <dc:title>Volume</dc:title>
</cp:coreProperties>
</file>